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825-46AE-4DAF-8E12-2401050A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1F6-C6B7-4AB4-B189-D92B7AC8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F28-FA05-4C79-97AA-1499B7C8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A57-A136-4C6F-AABF-1363A77C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109-B00A-4952-9815-E7E7798A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2DB-BFFD-4CB0-B40B-D5EEBFB0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6F2-D5D4-48E5-B0F1-4CED533E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A7D-EC2C-4025-B1E1-F801F23F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7FF-547B-413E-8526-6EF1A938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899-2644-4FE6-A776-649E3CBC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CE4-5C2C-4A8D-B0DC-C3049CC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E60-A037-401F-91DE-EA73082F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CA0D0-6311-4385-B934-A198B8A9D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666576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28800" y="2727360"/>
            <a:ext cx="387504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 Web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sh Good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A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59984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t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ine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bernate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atis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::DBI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ware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(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web services are incompa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ryone uses Chado (nor will th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PIs are language or system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light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ful (GET, POST, etc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data model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high level cross database 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ed URLs for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lists (XML, JSON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s in Generic Gene Page (GGP)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27240"/>
            <a:ext cx="907092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full text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fulltext/RNA%20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ntology/mitotic%20spindle%20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rthologs/WBGene000065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 retrieval (GGP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fetch/FBgn0026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make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interes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22:04:49Z</dcterms:created>
  <dc:creator>Josh Goodman</dc:creator>
  <dc:description/>
  <dc:language>en-US</dc:language>
  <cp:lastModifiedBy/>
  <dcterms:modified xsi:type="dcterms:W3CDTF">2009-01-15T18:11:25Z</dcterms:modified>
  <cp:revision>14</cp:revision>
  <dc:subject/>
  <dc:title/>
</cp:coreProperties>
</file>